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717-94C8-4B65-9407-BADA8CE6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4CA-895D-4642-A820-F8CFA28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A47-A56F-4215-A439-EE693369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17B-CC12-4DB9-85F3-25397597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74A-06CC-4242-9868-26D12450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0A56-57A2-4A6F-AD7C-0C1E181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35B7-C7EB-49B6-AF21-2D8208A6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38EF-A2F8-4CB7-882E-F795DE69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655-F6CB-4F0F-A6FB-97D81B39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77C-BA68-4C4E-A616-2E97D540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7257-07F7-48E8-A01F-355D0613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429-E7CB-42F6-BB9D-1BECE6B9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3894-5951-469D-A22C-5259A99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6B56-2099-49FD-BE11-304EE17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788-DCAF-485B-ACC9-23BDCEDE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33B-D0EB-401B-B2B7-4C63675C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06F1-00D7-4CE5-8713-6F8F8B05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827-C884-4ED7-85AC-9AC1F25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D6E-70BB-46D5-B8E7-8346685E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05A-03D2-44AE-BA24-C0DA16F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767-1656-4B17-907D-EB824C57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A63-B60D-49F7-815F-EC65563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C59-DDF8-4BB9-BD2A-8A3C68A5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A5E-FE84-4479-9C58-41F7874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9F9A-50DF-4930-A2DB-20BE14C6FA69}" type="slidenum">
              <a:rPr b="0" lang="en-A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DB4F-85E1-4B12-B2D4-AC42470E4F51}" type="slidenum">
              <a:rPr b="0" lang="en-A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EACHING-LEARNING CYCLE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 and the teacher engage in coopera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alogues to enhance learning that </a:t>
            </a: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the ch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is able to recall privately when completing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similar task/activity independently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her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child takes in the discussion of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sk/activity and uses it as private speech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ter occasions.”   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rial"/>
              </a:rPr>
              <a:t>SCAFFOLDING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Vygotsky’s notion of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caffold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b9efee"/>
                </a:solidFill>
                <a:latin typeface="Arial"/>
              </a:rPr>
              <a:t>directly relates t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Arial"/>
              </a:rPr>
              <a:t>hi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otions of Private Speech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Arial"/>
              </a:rPr>
              <a:t>and th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Zone of Proxima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evelopment. 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In order for a child to learn n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concepts or skills </a:t>
            </a:r>
            <a:r>
              <a:rPr b="0" i="1" lang="en-US" sz="4400" spc="-1" strike="noStrike">
                <a:solidFill>
                  <a:srgbClr val="ccff66"/>
                </a:solidFill>
                <a:latin typeface="Arial"/>
              </a:rPr>
              <a:t>the teach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66"/>
                </a:solidFill>
                <a:latin typeface="Arial"/>
              </a:rPr>
              <a:t>must provide scaffolds for th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66"/>
                </a:solidFill>
                <a:latin typeface="Arial"/>
              </a:rPr>
              <a:t>learning experience. 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Garamond"/>
              </a:rPr>
              <a:t>scaffolding is withdrawn a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Garamond"/>
              </a:rPr>
              <a:t>individual competenc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Garamond"/>
              </a:rPr>
              <a:t>develop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Garamond"/>
              </a:rPr>
              <a:t>What are the Educational implications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the student is an active participant in the learning process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ividual differences are accounted for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children are assisted in discovery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2480" y="476280"/>
            <a:ext cx="8291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s guide learning through explanation, demonstration and verbal prompts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lessons can be tailored to each child's zone of proximal development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ote teacher/child and child/child interaction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-40824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promote fantasy play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in the learning environment focus on literacy activitie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9efee"/>
                </a:solidFill>
                <a:latin typeface="Arial"/>
              </a:rPr>
              <a:t>use prompts, reminders, increase independence, give information, use cooperative learning and reciprocal teaching strategie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51120" y="-651960"/>
            <a:ext cx="8463240" cy="7844400"/>
            <a:chOff x="-51120" y="-651960"/>
            <a:chExt cx="8463240" cy="7844400"/>
          </a:xfrm>
        </p:grpSpPr>
        <p:sp>
          <p:nvSpPr>
            <p:cNvPr id="151" name=""/>
            <p:cNvSpPr/>
            <p:nvPr/>
          </p:nvSpPr>
          <p:spPr>
            <a:xfrm>
              <a:off x="1646280" y="696960"/>
              <a:ext cx="5718240" cy="508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6280" y="2673360"/>
              <a:ext cx="380880" cy="105264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83960 h 1052640"/>
                <a:gd name="textAreaBottom" fmla="*/ 763200 h 10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798800">
              <a:off x="3933360" y="2585880"/>
              <a:ext cx="428760" cy="1052640"/>
            </a:xfrm>
            <a:custGeom>
              <a:avLst/>
              <a:gdLst>
                <a:gd name="textAreaLeft" fmla="*/ 57240 w 428760"/>
                <a:gd name="textAreaRight" fmla="*/ 371520 w 428760"/>
                <a:gd name="textAreaTop" fmla="*/ 183960 h 1052640"/>
                <a:gd name="textAreaBottom" fmla="*/ 763200 h 10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3853320"/>
                  <a:lnTo>
                    <a:pt x="3600" y="21494"/>
                  </a:lnTo>
                  <a:lnTo>
                    <a:pt x="0" y="17280"/>
                  </a:lnTo>
                  <a:lnTo>
                    <a:pt x="3600" y="12854"/>
                  </a:lnTo>
                  <a:lnTo>
                    <a:pt x="3600" y="15014"/>
                  </a:lnTo>
                  <a:arcTo wR="21600" hR="7560" stAng="3853320" swAng="-3495885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9050000">
              <a:off x="1258560" y="1125000"/>
              <a:ext cx="2243160" cy="346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528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Building The Field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 rot="2720400">
              <a:off x="3554640" y="748800"/>
              <a:ext cx="4184640" cy="3639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727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Modelling / Deconstruction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8322000">
              <a:off x="5219280" y="4868640"/>
              <a:ext cx="2266920" cy="61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Joint Construction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 rot="13147200">
              <a:off x="826200" y="764640"/>
              <a:ext cx="6272280" cy="501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44113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dependent Construction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648240" y="2236680"/>
              <a:ext cx="2000160" cy="18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ntinue Building the Fiel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52920" y="696960"/>
              <a:ext cx="0" cy="5081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41320" y="3198960"/>
              <a:ext cx="5718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YGOTSKY- Sociocultural Theor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child is viewed as an active seeker of knowledge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child and environment interact together enabling cognitive development in a culturally adaptive way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mind is perceived to be socially constructed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child is born with basic attention, perceptual and memory capacities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THE TEACHING-LEARNING CYCLE (TLC!!!!!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BUILDING THE FIEL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MODELLING / DE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JOINT 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INDEPENDENT 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CAFFOLDING IN THE CLASSROOM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Arial"/>
              </a:rPr>
              <a:t>Challenges and extends lear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igh challenge and high support new learning takes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Arial"/>
              </a:rPr>
              <a:t>Support gradually withdrawn as learners increasingly become indepen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provided at point of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WHY IS IT USEFUL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Rationale and  framework for sequence of teaching and learning activiti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Focus on language learning and learning about languag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Pedagogy which ‘scaffolds’ creates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Flexible frame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ffffff"/>
                </a:solidFill>
                <a:latin typeface="Garamond"/>
              </a:rPr>
              <a:t>Teaching English to Second Language Learners is different because: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………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………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………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development occurs as a direct result of contact with the environment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child as self communicator – leads to higher order thinking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language and thought develop independently, but eventually merge and interact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IVATE SPEE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Vygotsky believed that i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order to learn children must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speak to themselves in a self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guiding and directing way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initially aloud and late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internally. 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..…as children develop an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become more competent in 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particular area, they begin 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internalise this speech an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gradually decrease its use… 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5400" spc="-1" strike="noStrike">
                <a:solidFill>
                  <a:srgbClr val="b9efee"/>
                </a:solidFill>
                <a:latin typeface="Arial"/>
              </a:rPr>
              <a:t>…</a:t>
            </a:r>
            <a:r>
              <a:rPr b="0" i="1" lang="en-US" sz="5400" spc="-1" strike="noStrike">
                <a:solidFill>
                  <a:srgbClr val="b9efee"/>
                </a:solidFill>
                <a:latin typeface="Arial"/>
              </a:rPr>
              <a:t>private speech is the foundation for all high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9efee"/>
                </a:solidFill>
                <a:latin typeface="Arial"/>
              </a:rPr>
              <a:t>order thinking processes…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Now where did I put the car keys”…., “Now I must remember to….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ygotsky believed that children'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such talk in daily lear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sks was particularly significant 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ing with difficult concept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ygotsky’s Sociocultura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ory </a:t>
            </a:r>
            <a:r>
              <a:rPr b="0" lang="en-US" sz="5400" spc="-1" strike="noStrike">
                <a:solidFill>
                  <a:srgbClr val="b9efee"/>
                </a:solidFill>
                <a:latin typeface="Arial"/>
              </a:rPr>
              <a:t>discuss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Arial"/>
              </a:rPr>
              <a:t>cognitive development a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Arial"/>
              </a:rPr>
              <a:t>dependent on </a:t>
            </a:r>
            <a:r>
              <a:rPr b="0" i="1" lang="en-US" sz="5400" spc="-1" strike="noStrike">
                <a:solidFill>
                  <a:srgbClr val="ccff66"/>
                </a:solidFill>
                <a:latin typeface="Arial"/>
              </a:rPr>
              <a:t>interactio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ff66"/>
                </a:solidFill>
                <a:latin typeface="Arial"/>
              </a:rPr>
              <a:t>with adults. 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50600"/>
            <a:ext cx="83628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ZONE OF PROXIMA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VELOP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refers to the tas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a child is </a:t>
            </a: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unable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 to complete alone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but is </a:t>
            </a: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able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 to complete with th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assistance of an adult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9:05:32Z</dcterms:created>
  <dc:creator>default</dc:creator>
  <dc:description/>
  <dc:language>en-US</dc:language>
  <cp:lastModifiedBy>St Agnes</cp:lastModifiedBy>
  <dcterms:modified xsi:type="dcterms:W3CDTF">2009-05-14T03:57:18Z</dcterms:modified>
  <cp:revision>10</cp:revision>
  <dc:subject/>
  <dc:title>THE TEACHING-LEARNING CYCLE</dc:title>
</cp:coreProperties>
</file>